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F3C-E43F-4E21-87AD-C913253B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B8B-D3AB-4A21-960E-CC6FD4CF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809-B601-4412-9897-EAC8BAD7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ACD-B9C8-447A-AC71-89899914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48F-A707-4173-A150-AD7AC381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979-6E09-486B-9309-619C3CE4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FE2-2423-4423-BF11-BB1054C2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E217-7019-4879-9F98-4279AB58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C07-7C98-4377-8DED-946BD9DA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C20-124A-497A-A8E1-253974D1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227-AFCF-4FC6-8CD9-0C23B993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008-2F62-4CEB-9D35-599BF182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66F0-0E99-40D5-BD15-C8FADA484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rowing Up or Grown Up with Cystic Fibrosis: 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els of Care in Transition to Adulth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Brager MD, FRC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M Sympo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 27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Care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McLaughlin et al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about transition, median age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ition process can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-appropriate preventive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eting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xu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 management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McLaughlin 7"/>
          <p:cNvPicPr/>
          <p:nvPr/>
        </p:nvPicPr>
        <p:blipFill>
          <a:blip r:embed="rId1"/>
          <a:stretch/>
        </p:blipFill>
        <p:spPr>
          <a:xfrm>
            <a:off x="1403280" y="1484280"/>
            <a:ext cx="6481800" cy="5111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0" y="18900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042920" y="189000"/>
            <a:ext cx="698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Care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McLaughlin et al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Tuchman 4"/>
          <p:cNvPicPr/>
          <p:nvPr/>
        </p:nvPicPr>
        <p:blipFill>
          <a:blip r:embed="rId1"/>
          <a:stretch/>
        </p:blipFill>
        <p:spPr>
          <a:xfrm>
            <a:off x="250920" y="1844640"/>
            <a:ext cx="8642160" cy="4510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835280" y="189000"/>
            <a:ext cx="55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Ca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ages from Erikson Psychosocial Crisis summary"/>
          <p:cNvPicPr/>
          <p:nvPr/>
        </p:nvPicPr>
        <p:blipFill>
          <a:blip r:embed="rId1"/>
          <a:stretch/>
        </p:blipFill>
        <p:spPr>
          <a:xfrm>
            <a:off x="838080" y="765000"/>
            <a:ext cx="7467840" cy="5559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533520" y="6276960"/>
            <a:ext cx="899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ng, A. and Meng, H. Jan. 27, 2006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rik Erikson’s Stages of Psychosocial Development – Summary Chart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trieved August 24, 2009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 www.vtaide.com/png/Erikson.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rikson’s Stages of Psychosocial Developmen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rikson Psychosocial Crisis summary"/>
          <p:cNvPicPr/>
          <p:nvPr/>
        </p:nvPicPr>
        <p:blipFill>
          <a:blip r:embed="rId1"/>
          <a:stretch/>
        </p:blipFill>
        <p:spPr>
          <a:xfrm>
            <a:off x="826920" y="83664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609480" y="627696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ng, A. and Meng, H. Jan. 27, 2006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rik Erikson’s Stages of Psychosocial Development – Summary Chart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trieved August 24, 2009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 www.vtaide.com/png/Erikson.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rikson’s Stages of Psychosocial Developmen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zant of developmental appropria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s of development with respect to psychosocial c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ty vs. Identity Confusion (too late? better during Industry vs. Inferio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imacy vs.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ivity vs. Stagnation (transpl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Car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, developmentally appropriate introduction for patients and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ized programs likely have benefit but tend to be more si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ons for some aspects of transitional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F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autosomal recessive fatal gene, chromosom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1 % DF508 or DI507, 95% Cauca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3600 children born in Canada have 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 age of diagnosis 3.5 y 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age of survival in Canada 37 years 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00 individuals attend CF Clinics (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50%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F 101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Manifestations and Compl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nchiec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neumotho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intestin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t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lnour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F 101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Disease Manifestations and Compl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eopo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rtility (m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F 101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has at least doubled over the past 2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otherapy/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maceu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F 2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sychiatric conditions in 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 – MDD, BDD, Substance in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xiety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abuse,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ment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 problems and occupational (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ting disorder (CF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adherance to medical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ychological facto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Low incidence of psychotic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s in 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diatric to adult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F Clinic to Transplant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lant Clinic to CF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to Adult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FF mandated adult care models and transition for patients over 21 in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ition is defined “the purposeful, planned movement of adolescents and young adults with chronic physical and medical conditions from child-centered to adult-oriented health care syste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age of transition 19y (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ansition Activities 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McLaughlin et al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readines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rdination of services/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and preventative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8:55:14Z</dcterms:created>
  <dc:creator>ITS</dc:creator>
  <dc:description/>
  <dc:language>en-US</dc:language>
  <cp:lastModifiedBy>Peter</cp:lastModifiedBy>
  <dcterms:modified xsi:type="dcterms:W3CDTF">2009-11-04T10:00:48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